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13FE-AF57-4AD0-9A06-F30D98C53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B551-BCC3-44E4-9B61-FF3B166ED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8E6B-ED18-4812-833E-84DD2855F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961A-3989-496C-B524-42CD1FB07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011B-5F6F-436F-80B9-9F3C9509B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9EE9-59A3-4B84-8F8C-CE4F93397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EC41-9C44-4672-8798-7D912F590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2E99-1EE7-40AD-BFEF-ABBE0EFFE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3506-E682-420A-89C7-45A4D3CAE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0300-1DEB-475A-8BBA-24B342CA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447D-8C00-4273-B3C5-2BD6D83B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31C8-8DE0-4C26-9C3F-01163966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C50BA-6F63-4B7E-ADDB-16F92AF95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89000"/>
            <a:ext cx="74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TUDY ON DIABETIC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17760" y="1398600"/>
          <a:ext cx="60958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7760" y="13986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4" name=""/>
          <p:cNvGrpSpPr/>
          <p:nvPr/>
        </p:nvGrpSpPr>
        <p:grpSpPr>
          <a:xfrm>
            <a:off x="611280" y="692280"/>
            <a:ext cx="8063280" cy="5976360"/>
            <a:chOff x="611280" y="692280"/>
            <a:chExt cx="8063280" cy="5976360"/>
          </a:xfrm>
        </p:grpSpPr>
        <p:cxnSp>
          <p:nvCxnSpPr>
            <p:cNvPr id="45" name="_s10246"/>
            <p:cNvCxnSpPr>
              <a:stCxn id="46" idx="1"/>
              <a:endCxn id="47" idx="2"/>
            </p:cNvCxnSpPr>
            <p:nvPr/>
          </p:nvCxnSpPr>
          <p:spPr>
            <a:xfrm rot="10800000">
              <a:off x="4642200" y="4875840"/>
              <a:ext cx="576720" cy="1495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8" name="_s10247"/>
            <p:cNvCxnSpPr>
              <a:stCxn id="49" idx="1"/>
              <a:endCxn id="47" idx="2"/>
            </p:cNvCxnSpPr>
            <p:nvPr/>
          </p:nvCxnSpPr>
          <p:spPr>
            <a:xfrm rot="10800000">
              <a:off x="4642200" y="4875840"/>
              <a:ext cx="576720" cy="598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" name="_s10248"/>
            <p:cNvCxnSpPr>
              <a:stCxn id="47" idx="0"/>
              <a:endCxn id="51" idx="2"/>
            </p:cNvCxnSpPr>
            <p:nvPr/>
          </p:nvCxnSpPr>
          <p:spPr>
            <a:xfrm rot="16200000">
              <a:off x="4045320" y="3682080"/>
              <a:ext cx="119520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2" name="_s10249"/>
            <p:cNvCxnSpPr>
              <a:stCxn id="53" idx="3"/>
              <a:endCxn id="51" idx="2"/>
            </p:cNvCxnSpPr>
            <p:nvPr/>
          </p:nvCxnSpPr>
          <p:spPr>
            <a:xfrm flipV="1">
              <a:off x="4066920" y="3084840"/>
              <a:ext cx="576000" cy="597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4" name="_s10250"/>
            <p:cNvCxnSpPr>
              <a:stCxn id="55" idx="3"/>
              <a:endCxn id="56" idx="2"/>
            </p:cNvCxnSpPr>
            <p:nvPr/>
          </p:nvCxnSpPr>
          <p:spPr>
            <a:xfrm flipV="1">
              <a:off x="4066920" y="1290240"/>
              <a:ext cx="576000" cy="598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" name="_s10251"/>
            <p:cNvCxnSpPr>
              <a:stCxn id="51" idx="0"/>
              <a:endCxn id="56" idx="2"/>
            </p:cNvCxnSpPr>
            <p:nvPr/>
          </p:nvCxnSpPr>
          <p:spPr>
            <a:xfrm rot="16200000">
              <a:off x="4044240" y="1888560"/>
              <a:ext cx="119700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6" name="_s10252"/>
            <p:cNvSpPr/>
            <p:nvPr/>
          </p:nvSpPr>
          <p:spPr>
            <a:xfrm>
              <a:off x="2914920" y="692280"/>
              <a:ext cx="3455640" cy="59796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800" spc="-1" strike="noStrike">
                  <a:solidFill>
                    <a:srgbClr val="000000"/>
                  </a:solidFill>
                  <a:latin typeface="Arial"/>
                </a:rPr>
                <a:t>542 pati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10253"/>
            <p:cNvSpPr/>
            <p:nvPr/>
          </p:nvSpPr>
          <p:spPr>
            <a:xfrm>
              <a:off x="2914920" y="2486880"/>
              <a:ext cx="3455640" cy="59796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800" spc="-1" strike="noStrike">
                  <a:solidFill>
                    <a:srgbClr val="000000"/>
                  </a:solidFill>
                  <a:latin typeface="Arial"/>
                </a:rPr>
                <a:t>246 pati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10254"/>
            <p:cNvSpPr/>
            <p:nvPr/>
          </p:nvSpPr>
          <p:spPr>
            <a:xfrm>
              <a:off x="611280" y="1589400"/>
              <a:ext cx="3455640" cy="59796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200" spc="-1" strike="noStrike">
                  <a:solidFill>
                    <a:srgbClr val="000000"/>
                  </a:solidFill>
                  <a:latin typeface="Arial"/>
                </a:rPr>
                <a:t>Previous CABG and PCI treated pati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200" spc="-1" strike="noStrike">
                  <a:solidFill>
                    <a:srgbClr val="000000"/>
                  </a:solidFill>
                  <a:latin typeface="Arial"/>
                </a:rPr>
                <a:t>(at the time of index procedur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200" spc="-1" strike="noStrike">
                  <a:solidFill>
                    <a:srgbClr val="000000"/>
                  </a:solidFill>
                  <a:latin typeface="Arial"/>
                </a:rPr>
                <a:t>exclud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10255"/>
            <p:cNvSpPr/>
            <p:nvPr/>
          </p:nvSpPr>
          <p:spPr>
            <a:xfrm>
              <a:off x="611280" y="3384360"/>
              <a:ext cx="3455640" cy="59616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500" spc="-1" strike="noStrike">
                  <a:solidFill>
                    <a:srgbClr val="000000"/>
                  </a:solidFill>
                  <a:latin typeface="Arial"/>
                </a:rPr>
                <a:t>Missing data on double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500" spc="-1" strike="noStrike">
                  <a:solidFill>
                    <a:srgbClr val="000000"/>
                  </a:solidFill>
                  <a:latin typeface="Arial"/>
                </a:rPr>
                <a:t>antiplatelet therapy excluded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10256"/>
            <p:cNvSpPr/>
            <p:nvPr/>
          </p:nvSpPr>
          <p:spPr>
            <a:xfrm>
              <a:off x="2914920" y="4279680"/>
              <a:ext cx="3455640" cy="59616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800" spc="-1" strike="noStrike">
                  <a:solidFill>
                    <a:srgbClr val="000000"/>
                  </a:solidFill>
                  <a:latin typeface="Arial"/>
                </a:rPr>
                <a:t>217 pati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10257"/>
            <p:cNvSpPr/>
            <p:nvPr/>
          </p:nvSpPr>
          <p:spPr>
            <a:xfrm>
              <a:off x="5218920" y="5175360"/>
              <a:ext cx="3455640" cy="59796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600" spc="-1" strike="noStrike">
                  <a:solidFill>
                    <a:srgbClr val="000000"/>
                  </a:solidFill>
                  <a:latin typeface="Arial"/>
                </a:rPr>
                <a:t>11 Stent thrombosi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10258"/>
            <p:cNvSpPr/>
            <p:nvPr/>
          </p:nvSpPr>
          <p:spPr>
            <a:xfrm>
              <a:off x="5218920" y="6072840"/>
              <a:ext cx="3455640" cy="59580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500" spc="-1" strike="noStrike">
                  <a:solidFill>
                    <a:srgbClr val="000000"/>
                  </a:solidFill>
                  <a:latin typeface="Arial"/>
                </a:rPr>
                <a:t>16 Death (cardiac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500" spc="-1" strike="noStrike">
                  <a:solidFill>
                    <a:srgbClr val="000000"/>
                  </a:solidFill>
                  <a:latin typeface="Arial"/>
                </a:rPr>
                <a:t>and from other causes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39640" y="2349360"/>
            <a:ext cx="8353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reat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nsulin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AgeAtPtca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Bifurcation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inalMaxDi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Min.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0.000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-19.5900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-0.03543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-19.8400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1st Qu.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2.751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0.0000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0.00000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0.0000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Median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3.288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0.0000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0.04582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0.0000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Mean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3.745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0.4531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0.04091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-0.4781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3rd Qu.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3.838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0.9071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0.06348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0.0000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Max.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34.530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2.3910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0.17380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1.7420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Hazard ratio medio (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9640" y="1890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BOOTSTRAP Reg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476360" y="501336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Age,Insulin therapy and DAT discontinuation are associated with follow-up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971640" y="47628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NTI DA DISCUT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55640" y="765000"/>
            <a:ext cx="7920000" cy="14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QUALI ENDPOINT SCEGLIERE AL FOLLOW UP: CONSIDERATO IL RIDOTTO NUMERO DI EVENTI , L’ANALISI PER RISCHI COMPETITIVI O IL COX CAUSA SPECIFICI SONO POCO APPLICABI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SAREBBE MOLTO BELLO APPLICARE QUESTA STRATEGIA PER UN ARTICOLO DI METODO; IN QUESTO CASO SI USANO PERO’ I DATI DI LAVORI Già PUBBLICATI …………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1280" y="2997360"/>
            <a:ext cx="8064360" cy="36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RISULTATI RIUN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ENDPOINT SONO ALL-CAUSES DEATH &amp; stent THROMB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CONCENTRARE L’ANALISI SUI PRIMI SEI MESI/un anno IN CUI C’è LA POSSIBILITà DI AVERE Più EVENTI, RIMANENDO VAGI NELLA SECONDA parte specificando che non è possibile giungere a conclus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Riportare nella figura Cox regression per composite event gli intervalli di confidenza nei vari period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riportare se possibile una figura (tipo cumulative incidence in cui si vedono le tre curve separate per stent trombosi, morte cardiaca e non cardiac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55640" y="692280"/>
            <a:ext cx="727236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ffff00"/>
                </a:solidFill>
                <a:uFillTx/>
                <a:latin typeface="Times New Roman"/>
              </a:rPr>
              <a:t>Follow-up 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Total case series. Patients with not first Stent implantation are included. Exclusion of the patients with previous stent implantations or  revascularizations (PCI = 1 or CABG=1). For these patients time 0 is not known. For these pateints TimeDAT is often miss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The end-point is a composite end point with stent trombosis or death due to cardiac cause or not. Patients without information on therapy were removed.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ffff00"/>
                </a:solidFill>
                <a:uFillTx/>
                <a:latin typeface="Times New Roman"/>
              </a:rPr>
              <a:t>Follow-up was curtailed at 1277 days (3.5 years) in order to leave in the “tail” of survival curve at least 50 pati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Follow-up : median 1083 days (IQR: 871-136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Event number: 25 (10 stent thrombosis and 15 cardiac dea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4360" y="188640"/>
            <a:ext cx="763272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it-IT" sz="1400" spc="-1" strike="noStrike">
                <a:solidFill>
                  <a:srgbClr val="ffffff"/>
                </a:solidFill>
                <a:latin typeface="Courier New"/>
              </a:rPr>
              <a:t>time n.risk n.event survival std.err lower 95% CI upper 95% 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it-IT" sz="1400" spc="-1" strike="noStrike">
                <a:solidFill>
                  <a:srgbClr val="ffffff"/>
                </a:solidFill>
                <a:latin typeface="Courier New"/>
              </a:rPr>
              <a:t>4    217       2    0.991 0.00649        0.964        0.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ffffff"/>
                </a:solidFill>
                <a:latin typeface="Courier New"/>
              </a:rPr>
              <a:t>11    215       1    0.986 0.00793        0.958        0.99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ffffff"/>
                </a:solidFill>
                <a:latin typeface="Courier New"/>
              </a:rPr>
              <a:t>13    214       1    0.982 0.00913        0.952        0.9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ffffff"/>
                </a:solidFill>
                <a:latin typeface="Courier New"/>
              </a:rPr>
              <a:t>15    213       1    0.977 0.01019        0.946        0.9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ffffff"/>
                </a:solidFill>
                <a:latin typeface="Courier New"/>
              </a:rPr>
              <a:t>35    211       1    0.972 0.01114        0.939        0.98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ffffff"/>
                </a:solidFill>
                <a:latin typeface="Courier New"/>
              </a:rPr>
              <a:t>60    210       1    0.968 0.01201        0.933        0.9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it-IT" sz="1400" spc="-1" strike="noStrike">
                <a:solidFill>
                  <a:srgbClr val="ffffff"/>
                </a:solidFill>
                <a:latin typeface="Courier New"/>
              </a:rPr>
              <a:t>62    209       1    0.963 0.01281        0.928        0.9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ffffff"/>
                </a:solidFill>
                <a:latin typeface="Courier New"/>
              </a:rPr>
              <a:t>163    208       1    0.958 0.01356        0.922        0.9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ffffff"/>
                </a:solidFill>
                <a:latin typeface="Courier New"/>
              </a:rPr>
              <a:t>169    207       1    0.954 0.01427        0.916        0.97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ffffff"/>
                </a:solidFill>
                <a:latin typeface="Courier New"/>
              </a:rPr>
              <a:t>176    205       1    0.949 0.01494        0.910        0.97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ffffff"/>
                </a:solidFill>
                <a:latin typeface="Courier New"/>
              </a:rPr>
              <a:t>333    201       1    0.944 0.01559        0.904        0.96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ffffff"/>
                </a:solidFill>
                <a:latin typeface="Courier New"/>
              </a:rPr>
              <a:t>458    193       1    0.940 0.01626        0.898        0.96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ffffff"/>
                </a:solidFill>
                <a:latin typeface="Courier New"/>
              </a:rPr>
              <a:t>524    191       1    0.935 0.01690        0.892        0.96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ffffff"/>
                </a:solidFill>
                <a:latin typeface="Courier New"/>
              </a:rPr>
              <a:t>600    185       1    0.930 0.01755        0.886        0.9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ffffff"/>
                </a:solidFill>
                <a:latin typeface="Courier New"/>
              </a:rPr>
              <a:t>625    184       1    0.925 0.01817        0.880        0.9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ffffff"/>
                </a:solidFill>
                <a:latin typeface="Courier New"/>
              </a:rPr>
              <a:t>654    183       1    0.919 0.01876        0.874        0.94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ffffff"/>
                </a:solidFill>
                <a:latin typeface="Courier New"/>
              </a:rPr>
              <a:t>679    182       1    0.914 0.01932        0.867        0.9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ffffff"/>
                </a:solidFill>
                <a:latin typeface="Courier New"/>
              </a:rPr>
              <a:t>721    178       1    0.909 0.01988        0.861        0.9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ffffff"/>
                </a:solidFill>
                <a:latin typeface="Courier New"/>
              </a:rPr>
              <a:t>781    176       1    0.904 0.02043        0.855        0.93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ffffff"/>
                </a:solidFill>
                <a:latin typeface="Courier New"/>
              </a:rPr>
              <a:t>809    174       1    0.899 0.02096        0.849        0.93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ffffff"/>
                </a:solidFill>
                <a:latin typeface="Courier New"/>
              </a:rPr>
              <a:t>970    134       1    0.892 0.02186        0.841        0.9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it-IT" sz="1400" spc="-1" strike="noStrike">
                <a:solidFill>
                  <a:srgbClr val="ffffff"/>
                </a:solidFill>
                <a:latin typeface="Courier New"/>
              </a:rPr>
              <a:t>1058    113       1    0.884 0.02304        0.830        0.9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it-IT" sz="1400" spc="-1" strike="noStrike">
                <a:solidFill>
                  <a:srgbClr val="ffffff"/>
                </a:solidFill>
                <a:latin typeface="Courier New"/>
              </a:rPr>
              <a:t>1226     77       1    0.873 0.02545        0.813        0.9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it-IT" sz="1400" spc="-1" strike="noStrike">
                <a:solidFill>
                  <a:srgbClr val="ffffff"/>
                </a:solidFill>
                <a:latin typeface="Courier New"/>
              </a:rPr>
              <a:t>1257     73       1    0.861 0.02776        0.796        0.9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it-IT" sz="1400" spc="-1" strike="noStrike">
                <a:solidFill>
                  <a:srgbClr val="ffffff"/>
                </a:solidFill>
                <a:latin typeface="Courier New"/>
              </a:rPr>
              <a:t>1314     60       1    0.847 0.03079        0.774        0.8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it-IT" sz="1400" spc="-1" strike="noStrike">
                <a:solidFill>
                  <a:srgbClr val="ffffff"/>
                </a:solidFill>
                <a:latin typeface="Courier New"/>
              </a:rPr>
              <a:t>1443     33       1    0.821 0.03911        0.728        0.8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86000" y="2009880"/>
            <a:ext cx="5599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.Even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.at risk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17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14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11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10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9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7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5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76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34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97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19280" y="47628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TENT THROMB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87320" y="115920"/>
            <a:ext cx="7672320" cy="56134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00000" y="5877000"/>
            <a:ext cx="763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Treat 0=hazard of death &amp; ST for patient always on 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Treat 1=hazard of death &amp;ST for patient who dis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55640" y="115920"/>
            <a:ext cx="7672320" cy="56134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00000" y="5877000"/>
            <a:ext cx="763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Treat 0=hazard of ST for patient always on 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Treat 1=hazard of ST for patient who dis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11280" y="692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Cox Regression analysis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1413000"/>
            <a:ext cx="76327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Times New Roman"/>
              </a:rPr>
              <a:t>Risk of composite endpoint of Stent thrombosis and Death (cardiac and from other causes)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ffffff"/>
                </a:solidFill>
                <a:latin typeface="Times New Roman"/>
              </a:rPr>
              <a:t>in patients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00"/>
                </a:solidFill>
                <a:latin typeface="Times New Roman"/>
              </a:rPr>
              <a:t>Double Antiplatelet Therapy (DAT) discontin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92360" y="3357720"/>
            <a:ext cx="61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00"/>
                </a:solidFill>
                <a:latin typeface="Times New Roman"/>
              </a:rPr>
              <a:t>HR 13.7 ; 95% IC 3.72-50.07; p=0.00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11280" y="1700280"/>
            <a:ext cx="828036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The value of the coeffcient is 2.62 corresponding to an hazard ratio for the discontinuation of the therapy of 13.7 [CI: 3.72, 50.7]. This hazard ratio is constant through time according to the model assump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To test for the validity of such assumption an interaction of treatment effect with time is inserted in to the mod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insertion of the time dependent eect of the treatment has a not signicant p-value. This should be interpreted taking into account the small number of events in this case series</a:t>
            </a:r>
            <a:r>
              <a:rPr b="0" lang="it-IT" sz="18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 In this perspective it seems that the inclusion of the time dependent eect should be retained as there is strong a priori belief that the discontinuation of the treatment produce dierent eects depending on the duration of the period of the treatment for each pati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At the beginning of the follow-up the hazard ratio is 23.37 with a constant decrease during follow-up (2.5 after 3 year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1280" y="692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Cox Regression analysis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826920" y="981000"/>
            <a:ext cx="7417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Anderson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Two follow-up periods are created: the first from the start of the follow-up to the first year, the second from the rst year to the end of observation if the patients has failure time or censoring time greater that 1 y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reat1 (one year therapy):  HR 17.94    95% IC  4.241      75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reat2 (more than one year therapy):   HR 6.83     95% IC  0.881       52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71640" y="386064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ffffff"/>
                </a:solidFill>
                <a:uFillTx/>
                <a:latin typeface="Arial"/>
              </a:rPr>
              <a:t>Who discontinued therapy in the first year have an increaed risk of composite event of death &amp; stent thromb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16:52:43Z</dcterms:created>
  <dc:creator>ambrogifederico</dc:creator>
  <dc:description/>
  <dc:language>en-US</dc:language>
  <cp:lastModifiedBy>Nuccia</cp:lastModifiedBy>
  <dcterms:modified xsi:type="dcterms:W3CDTF">2008-11-28T16:52:08Z</dcterms:modified>
  <cp:revision>26</cp:revision>
  <dc:subject/>
  <dc:title>Diapositiva 1</dc:title>
</cp:coreProperties>
</file>